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FEA2-FA0D-4116-A0E0-BDB12BD82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3DFB-2933-4B5F-8403-F133327F2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799A-CEEA-4AA5-9198-A19E2D310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8AA1-3BA2-4391-B0DA-56EA70C06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A07C-B189-4A88-9124-E8BF6440C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2EF3-D463-4846-ABCF-45F4F6116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923A-1A33-4203-A81C-777ADFF6C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1F82-EB5E-4F8B-9D50-CCCFB81B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DDF6-5334-4B3F-8169-624100695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771C-E6EA-4838-A74C-80726081C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8C98-2ACA-4BC5-AEB1-EEF802D8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3077-1028-428E-B644-3030559F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8484C6-76DC-45F9-81E8-CD9BFF7637B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9640" y="1260360"/>
            <a:ext cx="8753760" cy="574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 fill="hold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 turma dos g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20720" y="1768320"/>
            <a:ext cx="3990960" cy="4989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Havia um gato muito preocupado com seus amig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dur="indefinite" fill="hold">
                      <p:stCondLst>
                        <p:cond delay="indefinite"/>
                      </p:stCondLst>
                      <p:childTnLst>
                        <p:par>
                          <p:cTn id="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500" fill="hold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 turma dos g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Que viviam discutindo sobre a falta de ratos no mun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151600" y="2066760"/>
            <a:ext cx="4425840" cy="43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" dur="500" fill="hold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dur="indefinite" fill="hold">
                      <p:stCondLst>
                        <p:cond delay="indefinite"/>
                      </p:stCondLst>
                      <p:childTnLst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 turmados g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om rom disse que os ratos poderiam voltar que eles ficassem calmos. Rom rom era muito tranqui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151600" y="2549520"/>
            <a:ext cx="442584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 fill="hold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dur="indefinite" fill="hold">
                      <p:stCondLst>
                        <p:cond delay="indefinite"/>
                      </p:stCondLst>
                      <p:childTnLst>
                        <p:par>
                          <p:cTn id="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" dur="3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3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 turma dos g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4800" y="1768320"/>
            <a:ext cx="4224240" cy="49896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as um gato desconfiado não acreditou e foi para o mundo em busca de uma solução para o probl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dur="indefinite" fill="hold">
                      <p:stCondLst>
                        <p:cond delay="indefinite"/>
                      </p:stCondLst>
                      <p:childTnLst>
                        <p:par>
                          <p:cTn id="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dur="indefinite" fill="hold">
                      <p:stCondLst>
                        <p:cond delay="indefinite"/>
                      </p:stCondLst>
                      <p:childTnLst>
                        <p:par>
                          <p:cTn id="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3000" fill="hold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8920" y="2662200"/>
            <a:ext cx="90709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777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800" spc="-1" strike="noStrike">
                <a:solidFill>
                  <a:srgbClr val="000000"/>
                </a:solidFill>
                <a:latin typeface="Arial"/>
              </a:rPr>
              <a:t>Fim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dur="indefinite" fill="hold">
                      <p:stCondLst>
                        <p:cond delay="indefinite"/>
                      </p:stCondLst>
                      <p:childTnLst>
                        <p:par>
                          <p:cTn id="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 fill="hold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21:30:46Z</dcterms:created>
  <dc:creator/>
  <dc:description/>
  <dc:language>en-US</dc:language>
  <cp:lastModifiedBy/>
  <cp:revision>1</cp:revision>
  <dc:subject/>
  <dc:title/>
</cp:coreProperties>
</file>